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7770-1795-49B9-B53B-29E6C900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F252-242C-413C-83C7-D3FBAFC2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9364-B152-496F-A013-0FDA5660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FA11-6146-485E-8ECD-5CFD659EC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CDE4-3259-49A1-8BCD-6A33291C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6BE4-8AB2-4322-A77B-C63AA58B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5F0B-494A-4F43-9125-ADAFD7A5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D88A-D21F-43FB-BC43-A49E7646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6FC8-304A-4786-B1AD-80D03867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EE88-D885-4B59-A92A-024CDD26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577C-1A81-4D17-9FAD-059E0BE0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D318-7DF2-476B-B9AF-918CBDAF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0338-8BED-4AAC-A0C7-9BE29FBA50EB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200" spc="-1" strike="noStrike">
                <a:solidFill>
                  <a:srgbClr val="000000"/>
                </a:solidFill>
                <a:latin typeface="Calibri"/>
              </a:rPr>
              <a:t>Impact Of Weather On Human Activity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14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Brit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Drou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eath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mat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y a huge role in defining what human activities can and cannot occu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instance farming types are directly influenced by the climat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of the more extreme weather conditions are shown below to describe how they might affect human activ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Brit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Britain doesn't tend experience extremes of weather too often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g is common, and we usually have at least one bad flood each year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However, droughts and tropical storms (hurricanes) are much more rar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n the last 25 years Britain has experienced drought conditions in the summer of 1976 and 1995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Both caused great problems for local water supplies, after months of below average rainfall caused the reservoirs to run ou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Although these two summers were very hot, dry and caused problems they were nothing comparable to the extreme droughts recently experienced in Africa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Brit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nited Kingdom is not in the normal line of tropical storms or hurricanes ei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1987 a hurricane hit southern England causing millions of pounds worth of damage, but this was a freak occurrence rather than something we should expect every ye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Drou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rought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times when there has been below average rainfall for a period of time, causing water supplies to dry up and run ou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countries such as the United Kingdom and America they cause inconveniences for the local peop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ers probably will be affected and water supplies might be more tightly controlled, but in general the country will cope pretty wel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ing the mid 1990's California suffered a 3-year drought, and yet life continued almost as norm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Drou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ever in some less developed countries the threat of drought is a very dangerous one that could result in millions of people starving to death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eople in places such as Ethiopia and Sudan rely on the rains for their crop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st of them are subsistence farmers, which means that they grow enough for themselves, and maybe a little to sell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 the rains fail they are left with no food and no means to buy an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qually Africa is a very hot and dry continent, so drinking water is always very valuabl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rains mean that quickly people run out of wate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rious droughts have affected areas of Africa for the past 30 years, killing millions of peop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o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Fog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can cause great problems when it occurs in the United Kingdom, Anyone who has been in a car on the motorway in fog will appreciate this fact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ccidents are frequently caused by people driving too fast in patches of thick fog where the poor visibility means that they cannot really see the cars in front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Other methods of transport such as ships and planes are also badly affected by the poor visibility associated with fog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22:42:06Z</dcterms:created>
  <dc:creator>Dell_02</dc:creator>
  <dc:description/>
  <dc:language>en-US</dc:language>
  <cp:lastModifiedBy>Dell_02</cp:lastModifiedBy>
  <dcterms:modified xsi:type="dcterms:W3CDTF">2011-01-27T23:20:52Z</dcterms:modified>
  <cp:revision>3</cp:revision>
  <dc:subject/>
  <dc:title>Impact Of Weather On Human Activity</dc:title>
</cp:coreProperties>
</file>